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560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560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96F7A-7F72-4CD2-817F-8826BDCA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92C65-5E92-4F69-8E8F-DDAD119F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1E59B-EF6F-42ED-A967-852079E6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D11E1-EA12-4493-A17C-FA9F966B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A8959-805A-4EF9-9072-683B5E77A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234D2-FD3C-4557-997D-616B79FFC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151EB-2BB7-40A6-8C76-BD11423CF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F0808-B3A0-43FE-9BBD-FEA72673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8710E-C9BF-4493-AC68-B3EC2368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26B08-3589-43F4-A297-9DDCF77A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31305-1478-46D9-B18F-2E6CA766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5960" y="944100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2EDB7-62FE-4334-ABBD-A3B1ABFC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A002-0329-4BFF-A599-A2A1C2069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C9D1-D9FC-4884-85FC-1915634BB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EA85-E7EC-4192-B7EA-0567A3A1B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FB9-51D7-4C90-9EDB-BCE1BE09A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9160"/>
            <a:ext cx="7940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D9F3-185A-4331-AA68-692D2B0F7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28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9443520"/>
            <a:ext cx="255672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2BCA-2B3C-4985-A364-28CA46F83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DD3E-7BBC-4AE2-B8EC-EC623900C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92D1-E226-4CE4-8282-2C4A23DA8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C8AF-E340-4ABB-BFDF-D3ACEF35C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125E-0DBF-46FF-B63D-4ECAB89DB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944352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EF12-5DB1-40E7-B3F8-80009378F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280"/>
            <a:ext cx="387504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9443520"/>
            <a:ext cx="794088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46A7-0459-4068-9CD7-49FE981CA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5172DDA5-8581-444E-B0FB-735D398FE0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55ABB49B-EF6D-4C69-917A-5BF7207845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Peter.klaver@egem.n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liancy StUF standa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egroep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laver, EGEM i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5-11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ternatieve oplossingsrichtingen 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 marktconsult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0880" cy="137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gebruik zijnde en (niet?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werkende koppel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ventariseren 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ublic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der businessmo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keuringsinstituut / geen compliancy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de integratie afspraken / overeenkom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/openbaar maken va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afhankelijke (veld) inspec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st/keuringssoftware i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ntwikk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BBD59AC4-319C-4BC1-8670-62A01D7E91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olgtra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4232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ktconsultatie kandidaat – keuringsinstitu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, condities en randvoorwaa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CT-leveranci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rings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OM/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BO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besteding en sel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rming van inkoop/selectieteam en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FI – 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ctering /  inkoop keuringsinstitu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lisatie, test en accept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11280" y="5300640"/>
            <a:ext cx="460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222160" y="5084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39640" y="4294080"/>
            <a:ext cx="4608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150880" y="4149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o/no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843600" y="2060640"/>
            <a:ext cx="33480" cy="201600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7419960" y="4221000"/>
            <a:ext cx="1440" cy="20876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10920" y="2565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451280" y="4724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7419960" y="3284280"/>
            <a:ext cx="31680" cy="936360"/>
          </a:xfrm>
          <a:prstGeom prst="line">
            <a:avLst/>
          </a:prstGeom>
          <a:ln w="7632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dianummer 1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36F9069-11E2-47C3-A93B-E03E7903FA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6360" cy="3368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572000" y="4800600"/>
            <a:ext cx="3886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eter.klaver@egem.n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l. 06 3634 13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CD299B6C-630A-4A0A-AEEC-68FB103FFC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UF keurme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ikwijdte en toetsingsk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siness en organisatie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aan Keuringsinstitu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automatiseerde compliancy 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 van zaken en ver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2FB811A-7723-4DCB-9662-2D05518170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334200" y="1700280"/>
            <a:ext cx="280980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 een StUF keurme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6697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gemeenten en ove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betering interoperabiliteit in de prakt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koppelproblemen tussen software van verschillende leveranc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gere integratierisi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ten krijgen meer grip op kwaliteit van de standaarden en op de (juiste) implementatie ervan i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meenschappelijke en onafhankelijke testvoorzi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oordelen ICT 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nder testkosten (n * m testen naar n * 1 ) en (externe) onafhankelijke testhulpmiddelen/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urmerk is “kwaliteitsstempel” en een marketing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ssend in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vulling van pijler ICT – certificering op (juist) gebruik van standaarden “StUF-keurmerk” op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m organiseren, uitbesteden, samenwer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7380360" y="1062000"/>
            <a:ext cx="133344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79F1DD33-CADD-4D09-843E-95AA2EBFC6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045800"/>
            <a:ext cx="79423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compliancy –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ftware die voldoet aan de toetsingscriteria en proces krijgt een StUF keurme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91640" y="184464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163512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468360" y="2708280"/>
            <a:ext cx="1655640" cy="2305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09800" y="2781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Progr.van Ei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340000" y="2708280"/>
            <a:ext cx="504720" cy="2952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920320" y="2133720"/>
            <a:ext cx="5077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aag en opzet op hoofdlij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gitimatie, doe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model ( taakverdeling en financie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usiness case voor keuring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st en keuringskader StUF Keurme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ikwijd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pro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ctieve keuringscrite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sen aan ict leverancier en te keuren 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isen aa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uringsinstitu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pliancy voorzi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la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FD0675F5-F950-431B-9A6B-53650C8D15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ikwijdte Toetsingskader “StUF keurme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5435640" cy="354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152360" cy="110484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16200000">
            <a:off x="3294720" y="3121200"/>
            <a:ext cx="1079640" cy="5414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00720" y="2060640"/>
            <a:ext cx="2952720" cy="2879640"/>
          </a:xfrm>
          <a:prstGeom prst="ellipse">
            <a:avLst/>
          </a:prstGeom>
          <a:solidFill>
            <a:srgbClr val="d1c1d1"/>
          </a:solidFill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789440" y="2637000"/>
            <a:ext cx="2374920" cy="168264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3852720" y="2274840"/>
            <a:ext cx="1368720" cy="6508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852720" y="3932280"/>
            <a:ext cx="1152720" cy="64908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088960" y="5084640"/>
            <a:ext cx="3762000" cy="925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Het StUF keurmerk is GEEN garant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at een koppeling/service cor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erkt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E5F2472-C7FB-47BE-8BD6-652C62172B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108540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werkingsgebied van de StUF standaard is breder dan alleen gemeen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96872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364000" y="2133720"/>
            <a:ext cx="3490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 gemeentelijke ke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aakgegevens van/naar burgers/bedrij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ketens waar geen XML-standaard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0229185-8BB5-4AFE-A39F-C28F1E7676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- taakver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Oval 3"/>
          <p:cNvSpPr/>
          <p:nvPr/>
        </p:nvSpPr>
        <p:spPr>
          <a:xfrm>
            <a:off x="1116000" y="5373720"/>
            <a:ext cx="1511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Egem +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aarderingskamer +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LV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ROM/BA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KPB, …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924360" y="5157720"/>
            <a:ext cx="1152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 org. K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22920" y="1928880"/>
            <a:ext cx="296064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uringsdienst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en keur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&amp;O compliancyvoorzi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. inspec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apportage, admi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eerdere abonn.vorm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tr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stdiensten, adv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afhankelij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paran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wezen experti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(keten)integrat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XML/SOAP, en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n/toet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tenstandaard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79640" y="1916280"/>
            <a:ext cx="31687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219640" y="2268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788000" y="4248000"/>
            <a:ext cx="43164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60480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8FCBDD27-AFA8-41CE-B868-B80162B9BF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siness-model  - financieel (voorst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626000" cy="4222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estering + exploitatiekosten verdisconteerd in opbrengsten van keur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keuringen &gt; 150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CT leveranciers betalen de ke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ringsinstituut kan extra opbrengsten gener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garanti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ING, Waarderingskamer, LVO en .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oor dekking investering/ opstartkosten van keuringinstituut bij onvoldoende opbrengs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I 3 jaar, tegen kostpr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835280" y="3645000"/>
            <a:ext cx="6490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835280" y="350028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700360" y="4221000"/>
            <a:ext cx="576360" cy="43344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605160" cy="58896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1763640" y="2349360"/>
            <a:ext cx="720720" cy="576360"/>
          </a:xfrm>
          <a:prstGeom prst="ellipse">
            <a:avLst/>
          </a:prstGeom>
          <a:solidFill>
            <a:srgbClr val="ccf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533520"/>
                <a:tab algn="l" pos="1447920"/>
                <a:tab algn="l" pos="2362320"/>
                <a:tab algn="l" pos="3276720"/>
                <a:tab algn="l" pos="4191120"/>
                <a:tab algn="l" pos="5105520"/>
                <a:tab algn="l" pos="6019920"/>
                <a:tab algn="l" pos="6934320"/>
                <a:tab algn="l" pos="7848720"/>
                <a:tab algn="l" pos="8763120"/>
                <a:tab algn="l" pos="9677520"/>
                <a:tab algn="l" pos="1059192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ur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3"/>
          <p:cNvSpPr/>
          <p:nvPr/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3C16496-3631-4DB5-8175-E93823DFD1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isen aan compliancy voorzi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5473440" cy="334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40000" y="2560680"/>
            <a:ext cx="273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Ei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uncti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ik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 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b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>Peter Klaver</dc:creator>
  <dc:description/>
  <dc:language>en-US</dc:language>
  <cp:lastModifiedBy>Peter</cp:lastModifiedBy>
  <dcterms:modified xsi:type="dcterms:W3CDTF">2009-11-26T06:35:42Z</dcterms:modified>
  <cp:revision>42</cp:revision>
  <dc:subject>Versterking StUF in 2009</dc:subject>
  <dc:title>StUF compliancy </dc:title>
</cp:coreProperties>
</file>